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373-CFC2-4310-A8A7-F5455F36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FB0-73F4-4AE9-8F6C-A980B0DA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637-0C02-46DD-A2A2-52AC6B6B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4B8-E6E4-461A-B2B2-8DAE7DE2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C575-0337-44B5-8197-C8C2494C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7429-F00A-4BB4-9AD2-BACF3B52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52CF-59F8-468B-B969-D9D3ACA2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5048-CB68-4FDE-AA93-D4DA62CF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C466-59C4-4B61-B367-93751870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6998-8CB0-4414-92C0-D0E71D75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50F7-8CCA-465F-A440-52CE6A5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F76-6A4E-4822-AD5B-D549F336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E91C-6DD9-4E68-ACF5-11B2618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0741-7334-4D8F-AD5B-2D78E8E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612A-0F8C-4953-9C1E-55CFC144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8D7F-B799-4E42-A2B8-612BB79F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44BE-5D28-44F2-931A-BBCFC9B5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DC0-9680-4A5D-8BFA-833FFDB2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F15-B8AA-4F8E-9702-06E8A005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A09-1EA9-4E93-8C96-DC95B729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3DD-5330-48E7-99B8-0744A897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D41-E063-45C1-9179-84B76DF2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4B4-7F24-47D2-AFC7-B7AE7CA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CBE-A6A6-4D98-A4A8-EE3558AE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2483-A244-4DC6-8A14-94DE79DBC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B2E5-3A2B-4B4B-A82E-C17E21A6A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16.xml"/><Relationship Id="rId15" Type="http://schemas.openxmlformats.org/officeDocument/2006/relationships/slide" Target="slide26.xml"/><Relationship Id="rId16" Type="http://schemas.openxmlformats.org/officeDocument/2006/relationships/slide" Target="slide36.xml"/><Relationship Id="rId17" Type="http://schemas.openxmlformats.org/officeDocument/2006/relationships/slide" Target="slide18.xml"/><Relationship Id="rId18" Type="http://schemas.openxmlformats.org/officeDocument/2006/relationships/slide" Target="slide28.xml"/><Relationship Id="rId19" Type="http://schemas.openxmlformats.org/officeDocument/2006/relationships/slide" Target="slide38.xml"/><Relationship Id="rId20" Type="http://schemas.openxmlformats.org/officeDocument/2006/relationships/slide" Target="slide20.xml"/><Relationship Id="rId21" Type="http://schemas.openxmlformats.org/officeDocument/2006/relationships/slide" Target="slide30.xml"/><Relationship Id="rId22" Type="http://schemas.openxmlformats.org/officeDocument/2006/relationships/slide" Target="slide40.xml"/><Relationship Id="rId23" Type="http://schemas.openxmlformats.org/officeDocument/2006/relationships/audio" Target="../media/jeop.wav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0" y="1752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94320" y="316872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ll is used in all aspects excep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71800" y="312408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ying a p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9960" y="2971800"/>
            <a:ext cx="67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used to enclose a quot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in a quo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2520" y="3168720"/>
            <a:ext cx="50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ngle quotation marks ‘ ’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24720" y="3048120"/>
            <a:ext cx="70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using a fraction as an adj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needs to be don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91440" y="3168720"/>
            <a:ext cx="294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d a hyph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. Two-thi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2971800"/>
            <a:ext cx="73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eferring to something being spoke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use out loud or aloud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57600" y="3200400"/>
            <a:ext cx="13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u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59920" y="3048120"/>
            <a:ext cx="486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the Ku Klux Klan 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Klu Klux Kl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78160" y="31240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u Klux Kl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19080" y="3200400"/>
            <a:ext cx="71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prostate gland or prostrate gl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93960" y="3168720"/>
            <a:ext cx="58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’s the difference betwe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ert and desser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9400" y="2819520"/>
            <a:ext cx="740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ert means to abondon or a dry, ar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ce and dessert is the fin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rse of a me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94320" y="316872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definitely or definately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352680" y="3124080"/>
            <a:ext cx="23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initel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90000" y="3225960"/>
            <a:ext cx="711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s li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o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i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tc.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capitalized only when…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32880" y="3048120"/>
            <a:ext cx="458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used as part of or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of a proper no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90840" y="3276720"/>
            <a:ext cx="78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ce between weather and wheth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222920" y="3048120"/>
            <a:ext cx="69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ather: rain, snow, hai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ther: which or whichever of tw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071360" y="2971800"/>
            <a:ext cx="71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extra exclamation and ques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ks appropriate for formal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87640" y="31240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4840" y="31240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5400" y="32004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ce between beside and besid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04880" y="2743200"/>
            <a:ext cx="61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side: next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sides: in addition to or excep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523880" y="3048120"/>
            <a:ext cx="61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 far a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 fast a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ll the farth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ll the fast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211480" y="2971800"/>
            <a:ext cx="44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 far a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 fast 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76520" y="2971800"/>
            <a:ext cx="60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alian is pronounced like w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041000" y="31240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299960" y="2971800"/>
            <a:ext cx="70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pitalize school subjects w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56440" y="2819520"/>
            <a:ext cx="52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y are languages 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followed by a nu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83600" y="2743200"/>
            <a:ext cx="54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bingd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bingt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78160" y="281952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ngd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6280" y="3048120"/>
            <a:ext cx="73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commas where they are need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my Anderson who graduated from Avon High Scho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ted his alma mater yester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451520" y="2819520"/>
            <a:ext cx="67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and whom refer to what, wh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or that refer to wha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63320" y="2895480"/>
            <a:ext cx="831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or whom: refers to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or that: animals, objects, or concep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64400" y="2819520"/>
            <a:ext cx="59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my Anderson, who graduated from Av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School, visited his alma mater yester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81000" y="331776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it all the people or all of the peop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8120" y="327672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the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92520" y="3168720"/>
            <a:ext cx="457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do you spell ou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 or 133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12040" y="31240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04</cp:lastModifiedBy>
  <dcterms:modified xsi:type="dcterms:W3CDTF">2010-05-19T18:42:51Z</dcterms:modified>
  <cp:revision>16</cp:revision>
  <dc:subject/>
  <dc:title>Jeopardy</dc:title>
</cp:coreProperties>
</file>